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858B-4AB3-4DC2-8730-075A26B9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E2F-8B25-4F4F-B0BA-DF287EB3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CE4A-EAE4-4382-9676-4D77EDCA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4CFA-508A-442D-8337-08E51F80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7D9D-0D55-4678-B6DF-FD856032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302-2E8F-4CA6-9A50-4D4DC316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6322-1FDC-400A-A5E0-3584D771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BD5-9B4E-4A47-8406-BE94D6E6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E1D-15A5-4CD2-BFE1-FF466BE1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265-0D4F-41ED-9306-D1C11F70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6FA-637D-492E-8DA4-FF7E30DA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86F6-8B1A-44DD-9A82-E4BCF5C1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9B31-7290-4985-94AA-BE86A0E1D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pic 1: Types of Econom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pic 2: Supply/Dem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pic 3: Business Organiz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pic 4: Managing Money &amp; Bank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pic 5: Consumer Rights &amp; Responsibiliti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667080" y="122400"/>
            <a:ext cx="7872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II: Business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Sole Propriet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Coope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. Franch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Organized L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Labor 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abor, Craft,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8160" y="320760"/>
            <a:ext cx="7310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etter Work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llective Barg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ediation, Arbi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r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Government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1930-4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ocial Security Act of 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National Labor Relations Act of 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Fair Labor Standards Act of 19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Taft Hartley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nti-Trust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omb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onopoly, Oligop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rizontal Merger, Vertical Me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nglomerates &amp; M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705960" y="122400"/>
            <a:ext cx="84099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V: Managing Money &amp; B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Personal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ispo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iscre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Planning &amp; Budg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ome v.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redit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avings v. Checking 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7520" y="439560"/>
            <a:ext cx="8597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ivid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Mutual Fund &amp; Pension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Insuranc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Capital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Ban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ommercial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ime v. Demand Depo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redit v. Debit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redit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DIC (Federal Deposit Insurance Corpo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Coin, Currency, Checks, Legal T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10040" y="2503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-454680" y="193680"/>
            <a:ext cx="7751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V: Consumer Rights &amp;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Choice in spending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. Consumer Bill of Rights Page 5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I. Consumer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Sh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Report Faulty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Fair Compl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Don’t Impulse 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Beware of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Spar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429120" y="320760"/>
            <a:ext cx="6158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: Types of Econo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Tradi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mmu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Karl Mar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oci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xampl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 M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80880" y="1011240"/>
          <a:ext cx="8382240" cy="4835520"/>
        </p:xfrm>
        <a:graphic>
          <a:graphicData uri="http://schemas.openxmlformats.org/drawingml/2006/table">
            <a:tbl>
              <a:tblPr/>
              <a:tblGrid>
                <a:gridCol w="1623960"/>
                <a:gridCol w="1624320"/>
                <a:gridCol w="1623960"/>
                <a:gridCol w="1623960"/>
                <a:gridCol w="188604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x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 cap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Ex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5360" y="162000"/>
            <a:ext cx="7623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I: Supply &amp;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Individual v. 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Law of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.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Sub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Complimen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016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52680" y="1752480"/>
            <a:ext cx="1295640" cy="236232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404640 h 2362320"/>
              <a:gd name="textAreaBottom" fmla="*/ 175608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02" stAng="-5400000" swAng="5400000"/>
                <a:lnTo>
                  <a:pt x="21600" y="12354"/>
                </a:lnTo>
                <a:arcTo wR="21600" hR="7402" stAng="0" swAng="1963271"/>
                <a:lnTo>
                  <a:pt x="10165" y="20729"/>
                </a:lnTo>
                <a:lnTo>
                  <a:pt x="0" y="17280"/>
                </a:lnTo>
                <a:lnTo>
                  <a:pt x="10165" y="12089"/>
                </a:lnTo>
                <a:lnTo>
                  <a:pt x="10165" y="13933"/>
                </a:lnTo>
                <a:arcTo wR="21600" hR="7402" stAng="1963271" swAng="-1547159"/>
                <a:lnTo>
                  <a:pt x="20356" y="9878"/>
                </a:lnTo>
                <a:arcTo wR="21600" hR="7402" stAng="-416112" swAng="-4983888"/>
                <a:close/>
              </a:path>
              <a:path fill="darkenLess" w="21600" h="21600">
                <a:moveTo>
                  <a:pt x="0" y="0"/>
                </a:moveTo>
                <a:arcTo wR="21600" hR="7402" stAng="-5400000" swAng="5400000"/>
                <a:lnTo>
                  <a:pt x="21600" y="12354"/>
                </a:lnTo>
                <a:arcTo wR="21600" hR="7402" stAng="0" swAng="-416112"/>
                <a:lnTo>
                  <a:pt x="20356" y="9878"/>
                </a:lnTo>
                <a:arcTo wR="21600" hR="7402" stAng="-416112" swAng="-4983888"/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4876920"/>
            <a:ext cx="44956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mand Schedu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76320" y="838080"/>
            <a:ext cx="9144000" cy="5016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76720" y="2209680"/>
            <a:ext cx="1447560" cy="2438640"/>
          </a:xfrm>
          <a:custGeom>
            <a:avLst/>
            <a:gdLst>
              <a:gd name="textAreaLeft" fmla="*/ 193680 w 1447560"/>
              <a:gd name="textAreaRight" fmla="*/ 1253880 w 1447560"/>
              <a:gd name="textAreaTop" fmla="*/ 426600 h 2438640"/>
              <a:gd name="textAreaBottom" fmla="*/ 176796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62520" y="5105520"/>
            <a:ext cx="36320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mand Curv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066680"/>
            <a:ext cx="342900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62120" y="762120"/>
            <a:ext cx="28699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bstitut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562720" y="762120"/>
            <a:ext cx="32763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mpli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81640" cy="2025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3505320" cy="2330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523880" y="1295280"/>
            <a:ext cx="1398600" cy="2362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80880" y="388620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47120" y="380880"/>
            <a:ext cx="365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Law of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2860560"/>
            <a:ext cx="72388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7600" y="360360"/>
            <a:ext cx="592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Supply &amp; Demand Competing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ur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hor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quilibrium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ice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8:30:30Z</dcterms:created>
  <dc:creator>Chatham Central</dc:creator>
  <dc:description/>
  <dc:language>en-US</dc:language>
  <cp:lastModifiedBy>Chatham Central</cp:lastModifiedBy>
  <dcterms:modified xsi:type="dcterms:W3CDTF">2009-04-29T18:45:54Z</dcterms:modified>
  <cp:revision>3</cp:revision>
  <dc:subject/>
  <dc:title>Goal 8 Economics II</dc:title>
</cp:coreProperties>
</file>